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B32-B3CF-482C-88A2-E731B702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6A9-826D-41BB-9EE6-50B1852D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A75-8EA3-44D1-BD4D-CC634D82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E98-E4B3-40B2-A76C-4E1ED7F0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7EF5-6516-4F96-B86A-847C642E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9FC2-7381-46B4-9D22-AB486049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EFF5-A6C9-42B2-A0BD-BE3F143F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AA1D-4A18-40A2-A361-59BD977C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31C1-2432-4429-9DF2-720EBE86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2DDD-3C85-4553-A3EE-B4A53B53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C8A4-63B2-4423-9E7F-863D1DC4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FD9-E87A-4FD2-BA04-7EEE478A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FD3F-DF74-4A8A-8439-7C05E4E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7124-E88E-40D6-A71E-B091D3F9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1214-F2BF-4762-85F7-96D7B6FD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96CA-0C89-4CC8-BDAA-B437BFF8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723D-BB02-4D9E-990C-EB7D865F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464-721D-4BA6-BBE8-C453ED70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5AA-80CE-4187-89C0-8EA67429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3FB-A174-4A71-B318-892BF768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045-49E7-4216-8B38-EA8C98B5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BCC-5598-45E2-AC8B-9C7DD4C8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5E7-6483-4839-84E7-207C56E5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D7F-F76C-4CAD-BCD6-39680EF8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C062-458C-420B-979A-66688FE383B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7DEF-0F13-40D1-A113-A24573C790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om.edu/CMS/3809/54070/63118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21932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munity Medicine:</a:t>
            </a:r>
            <a:br>
              <a:rPr sz="40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Car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Coun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580920"/>
            <a:ext cx="70041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ancisco J. Dorado, M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a Costa Regional Medical Center 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Medicine Resid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rch 3, 200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 from Monument, Conco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laborers face long odds of getting work as they wait by the Monument Boulevard McDonalds on Thursday Feb. 12, 2009 in Concord, Calif. The Pew Hispanic Center released a report Thursday saying "the unemployment rate has increased more and the share of the working-age population that is employed has fallen more for immigrant Hispanics than for other racial and ethnic groups in the first year of the recession." (Karl Mondon/ Staff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 Costa Times 2/13/0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sa and Adolfo are immigrants who are in the process of adjusting their immigration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owns his landscaping business and they make $1800/mon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have one son, Jose, age 5 and one on the w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is awaiting for Medi-Cal approv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(continue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d on income Rosa qualifies for Medi-C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qualifies for CHDP (not insuranc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qualifies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has coverage by Medi-Cal while pregnant then may apply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born will maintain Medi-Cal for first 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will only come in for CHDP (wellness vis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wants to adjust immigration status and does not want Government subsidized insurance. Maria is the sa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y of 4, one will have insur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Healthcare Coalition/ Contra Costa Public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nded in 199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ssion is to “Improve access to health care for all children and families in Contra Costa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zens of community organizations represe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hotline: 1-877-503-935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ners in A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aiser Perman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nned Parenthood (Concord, Richmond, Antio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linica (Concord, Pittsbur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ookside Community Heal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ctor’s Hospi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hn Muir/Mt. Diabl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Connections/East Bay Perina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to Health Care Coal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ool distri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/Recommend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otion of existing programs to qualified family members at prenatal visits, newborn exams, OB triage and CHDP visi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ion about changes in immigration questions and health benefits not counting against becoming a citiz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 will change stigma associated with using government subsidized health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people who have lost their jobs and employer sponsored insurance are now dependent on CCHS &amp; ER’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dget cuts $15 million dollars from Contra Costa Health Services by March ‘09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ing loss of tax revenue as a result of housing crisis, decreasing tax b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ontracostatimes.com/search/ci_11777623?IADID=Search-www.contracostatimes.com-www.contracostatimes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versal Health Coverag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IP expansion—4 million more elig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mulus bill includes $19 billion for electronic medical record, &amp; funding for COBRA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let there be no doubt: Health care reform cannot wait, it must not wait, and it will not wait another year”. President Obama’s Feb 2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peech to Congres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Yes, we can!</a:t>
            </a:r>
            <a:br>
              <a:rPr sz="6600"/>
            </a:b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headline76e70e" descr="Obama becomes 44th US president"/>
          <p:cNvPicPr/>
          <p:nvPr/>
        </p:nvPicPr>
        <p:blipFill>
          <a:blip r:embed="rId1"/>
          <a:stretch/>
        </p:blipFill>
        <p:spPr>
          <a:xfrm>
            <a:off x="2286000" y="1752480"/>
            <a:ext cx="5486400" cy="2629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¡Si, se puede!”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esar Chavez 1927-199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ground of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pidemiology of the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I.    Health Coverage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is not Accessing Ca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Contra Costa Doing to He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v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ture:Universal Health Coverag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&gt;47 Million uninsured and we spend 17% of GDP, or $2.4 trillion 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lth care spending in Switzerland, Germany, Canada and France are about 10% of GDP according the Organization for Economic Cooperation and Develop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US is the only industrialized country without a safety net of insurance programs/universal health c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rank 42 in the world for life expectancy ‘08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Institute of Medicine (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om.edu/CMS/3809/54070/63118.aspx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https://www.cia.gov/library/publications/the-world-factbook/rankorder/2102rank.htm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nsured rate for immigrants in California is 30-40%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 10 thousand uninsured children living in Contra Costa* and many more ad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tes of asthma in African American children are (63/10,000) five times compared to White children (13/10,000)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tinas have teen rate of birth 54.1/K more than twice the county overall 23.4/ K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E. Richard Brown, UCLA School of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frican Americans and Latinos, as well as people living in San Pablo, Richmond, Richmond, Pittsburg, Bay Point are more likely to die from diabetes compared to the county overall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idents of Bay Point die 11 years younger than those living in Orinda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 of Insurance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re 1965 and Part D in 2003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id/Medi-Cal 1965 (Title XVIII and XIX of the Social Security Act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CHIP (State Children’s Health Insurance Program)/Healthy Families 1997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FQHC Statu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Local Initiative/CCHP since 1973*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Adult Care-</a:t>
            </a:r>
            <a:r>
              <a:rPr b="0" lang="en-U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Health Care 8,500 enrolled in 2007.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$45 million over 3 years from federal funds for Health Coverage Initiative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ms.hhs.gov/History/Downloads/CMSProgramKeyMilestones.pd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 Director’s Report January 2009, pg 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*http://www.cchealth.org/health_plan/about_us.php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ome Guidelines and Health Coverage Progra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24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480" y="1523880"/>
          <a:ext cx="8534520" cy="5078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853452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Federal Poverty Guidelines (FPG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8 FPG guidelines for a </a:t>
            </a:r>
            <a:r>
              <a:rPr b="1" lang="en-US" sz="3200" spc="-1" strike="noStrike">
                <a:solidFill>
                  <a:srgbClr val="3365cd"/>
                </a:solidFill>
                <a:latin typeface="ComicSansMS-Bold"/>
              </a:rPr>
              <a:t>4-person famil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00% FPL = $21,2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50% FPL = $31,8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% FPL = $42,4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50% FPL = $53,0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300% FPL = $63,6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are the uninsure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4479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«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1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2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3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4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»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649600"/>
            <a:ext cx="5375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428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116" name="20090212__ecct0213econlatin~1_Gallery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302904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20090212__ecct0213econlatin~2_Gallery" descr=""/>
          <p:cNvPicPr/>
          <p:nvPr/>
        </p:nvPicPr>
        <p:blipFill>
          <a:blip r:embed="rId4"/>
          <a:stretch/>
        </p:blipFill>
        <p:spPr>
          <a:xfrm>
            <a:off x="4267080" y="1143000"/>
            <a:ext cx="4572000" cy="3108240"/>
          </a:xfrm>
          <a:prstGeom prst="rect">
            <a:avLst/>
          </a:prstGeom>
          <a:ln w="0">
            <a:noFill/>
          </a:ln>
        </p:spPr>
      </p:pic>
      <p:pic>
        <p:nvPicPr>
          <p:cNvPr id="118" name="20090212__ecct0213econlatin~4_Gallery" descr=""/>
          <p:cNvPicPr/>
          <p:nvPr/>
        </p:nvPicPr>
        <p:blipFill>
          <a:blip r:embed="rId5"/>
          <a:stretch/>
        </p:blipFill>
        <p:spPr>
          <a:xfrm>
            <a:off x="4267080" y="4343400"/>
            <a:ext cx="4572000" cy="232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571644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ttp://www.contracostatimes.com/search/ci_11692891?IADID=Search-www.contracostatimes.com-www.contracostatimes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0:34:28Z</dcterms:created>
  <dc:creator>Valued Customer </dc:creator>
  <dc:description/>
  <dc:language>en-US</dc:language>
  <cp:lastModifiedBy> </cp:lastModifiedBy>
  <dcterms:modified xsi:type="dcterms:W3CDTF">2009-03-03T06:23:32Z</dcterms:modified>
  <cp:revision>12</cp:revision>
  <dc:subject/>
  <dc:title>Community Medicine: Access to Care  Contra Costa County</dc:title>
</cp:coreProperties>
</file>